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drumroll.wav" ContentType="audio/x-wav"/>
  <Override PartName="/ppt/media/applause.wav" ContentType="audio/x-wav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C82C-FF97-401E-8AC7-CA41A292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1879-9D19-4D6F-9684-224166F4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FADC-6F11-4265-8E68-89FA49F4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83D7-C9FB-467E-90AA-F593E902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1059-3C44-40E9-A6D1-2D962E21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6205-DFE6-4E37-8DE1-E5E36928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4142-7A3B-49F1-B14D-23B77C28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E243-E96E-47BE-9CC0-06A04781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A203-444D-4CAE-A030-5CEA0BA7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32CB-7803-446D-B477-502A1833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EFF0-E43A-44F0-A8E7-9D7F0366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A4A1-6AE6-4233-BB64-9B199D30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C5F4-FC0D-4434-BA79-38BEB4DE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646A-3887-40C9-A575-7CEE25F7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B634-AED0-4470-92D4-AD8B8D4A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E874-E8A3-46A5-AAB5-C3947A29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D839-DEB7-44B5-87E9-24E74990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B5C3-CAB7-45D5-8AB5-41D9A890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1741-AD88-40B9-B627-C329B6C5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8BBF-834D-43DE-BA32-8AB814F5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6C23-C794-46BB-80F2-D612E5FC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A5AE-F7AD-4AD9-92DB-9FED4555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FB17-D818-4849-8049-84B22D07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1553-3330-49D9-BA2F-FD4A9306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66B1-25CB-4E03-BAAF-47906626E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7F6C-6A25-42F0-8500-5BAF45E3C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590920"/>
            <a:ext cx="59436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ssage to Freedom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1920" y="5638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2 Week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15" descr="PASSAGE TO FREEDOM"/>
          <p:cNvPicPr/>
          <p:nvPr/>
        </p:nvPicPr>
        <p:blipFill>
          <a:blip r:embed="rId1"/>
          <a:stretch/>
        </p:blipFill>
        <p:spPr>
          <a:xfrm>
            <a:off x="5334120" y="380880"/>
            <a:ext cx="34480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504960" y="1904760"/>
            <a:ext cx="5181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erson whose work is to manage relations between nation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33920" y="457200"/>
            <a:ext cx="403848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iploma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28600" y="304920"/>
            <a:ext cx="327672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plo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s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ug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a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eri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6" descr="Bush Flag"/>
          <p:cNvPicPr/>
          <p:nvPr/>
        </p:nvPicPr>
        <p:blipFill>
          <a:blip r:embed="rId1"/>
          <a:stretch/>
        </p:blipFill>
        <p:spPr>
          <a:xfrm>
            <a:off x="304920" y="1981080"/>
            <a:ext cx="342900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uck and Marcy wer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epresentativ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or our scho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ople who maintain ord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ople who act or speak for oth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04920" y="4343400"/>
            <a:ext cx="8153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rs. Anderson wi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ss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award for best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ju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438280" y="4343400"/>
            <a:ext cx="39625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sent food and water to the group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efuge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ople who leave a country to escape dang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ople who refuse to leave their homepl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0" y="3809880"/>
            <a:ext cx="8686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president met with sever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iploma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the White Hou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* people who lead in their countr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*people who represent one country in ano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57200" y="4114800"/>
            <a:ext cx="7772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made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greem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list of possibiliti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plan with detailed infor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990720" y="3886200"/>
            <a:ext cx="73911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ndy’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uperio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cided to make some chang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ople who assi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ople who rank hig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752480" y="4419720"/>
            <a:ext cx="6019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fore people used the telephone, they communicat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ab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lescop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legrap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1371600" y="4419720"/>
            <a:ext cx="5486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4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1219320"/>
            <a:ext cx="3657600" cy="99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57200" y="2666880"/>
            <a:ext cx="281952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abl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80880" y="4038480"/>
            <a:ext cx="373392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iploma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981080" y="5562720"/>
            <a:ext cx="3048120" cy="838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ssu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4495680" y="1295280"/>
            <a:ext cx="373392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fuge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3581280" y="2438280"/>
            <a:ext cx="525780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presentativ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4800600" y="3886200"/>
            <a:ext cx="358128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uperior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5410080" y="5181480"/>
            <a:ext cx="2971800" cy="6858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vis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580920" y="1828800"/>
            <a:ext cx="4953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fficial signature or endorsement upon passport or document, showing it has been examined and approv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886200" y="3049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vis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304920"/>
            <a:ext cx="327672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plo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s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ug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a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eri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5" descr="MPj03058000000[1]"/>
          <p:cNvPicPr/>
          <p:nvPr/>
        </p:nvPicPr>
        <p:blipFill>
          <a:blip r:embed="rId1"/>
          <a:stretch/>
        </p:blipFill>
        <p:spPr>
          <a:xfrm>
            <a:off x="685800" y="609480"/>
            <a:ext cx="2914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352320" y="190512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ssage sen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rough wires by electric current; also called a tele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648320" y="914400"/>
            <a:ext cx="289548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abl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228600" y="304920"/>
            <a:ext cx="327672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plo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s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ug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a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eri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8" descr="Postal Telegraph Cable Co. operators in the Cornwell Building"/>
          <p:cNvPicPr/>
          <p:nvPr/>
        </p:nvPicPr>
        <p:blipFill>
          <a:blip r:embed="rId1"/>
          <a:stretch/>
        </p:blipFill>
        <p:spPr>
          <a:xfrm>
            <a:off x="0" y="457200"/>
            <a:ext cx="441972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886200" y="198072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o send out; put forth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4038480" y="60948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ssu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228600" y="304920"/>
            <a:ext cx="327672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plo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s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ug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a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eri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11" descr="MCj04136660000[1]"/>
          <p:cNvPicPr/>
          <p:nvPr/>
        </p:nvPicPr>
        <p:blipFill>
          <a:blip r:embed="rId1"/>
          <a:stretch/>
        </p:blipFill>
        <p:spPr>
          <a:xfrm>
            <a:off x="533520" y="3124080"/>
            <a:ext cx="35272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657600" y="2057040"/>
            <a:ext cx="5029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armony in feeling or opinio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733920" y="609480"/>
            <a:ext cx="388620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28600" y="304920"/>
            <a:ext cx="327672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plo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s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ug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a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eri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5" descr="MCBD19890_0000[1]"/>
          <p:cNvPicPr/>
          <p:nvPr/>
        </p:nvPicPr>
        <p:blipFill>
          <a:blip r:embed="rId1"/>
          <a:stretch/>
        </p:blipFill>
        <p:spPr>
          <a:xfrm>
            <a:off x="1981080" y="4572000"/>
            <a:ext cx="2335320" cy="2068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MCBD19728_0000[1]"/>
          <p:cNvPicPr/>
          <p:nvPr/>
        </p:nvPicPr>
        <p:blipFill>
          <a:blip r:embed="rId2"/>
          <a:stretch/>
        </p:blipFill>
        <p:spPr>
          <a:xfrm>
            <a:off x="6477120" y="4800600"/>
            <a:ext cx="188424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657240" y="175248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people who flee to another country for safet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809880" y="304920"/>
            <a:ext cx="358164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fuge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28600" y="304920"/>
            <a:ext cx="327672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plo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s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ug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a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eri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8" descr="44-150x108"/>
          <p:cNvPicPr/>
          <p:nvPr/>
        </p:nvPicPr>
        <p:blipFill>
          <a:blip r:embed="rId1"/>
          <a:stretch/>
        </p:blipFill>
        <p:spPr>
          <a:xfrm>
            <a:off x="228600" y="2895480"/>
            <a:ext cx="40384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962520" y="16761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eople appointed or elected to act or speak for other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2286000" y="304920"/>
            <a:ext cx="518148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presentativ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80880" y="1523880"/>
            <a:ext cx="3276720" cy="4496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plo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s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ug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a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eri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10" descr="MCj02500550000[1]"/>
          <p:cNvPicPr/>
          <p:nvPr/>
        </p:nvPicPr>
        <p:blipFill>
          <a:blip r:embed="rId1"/>
          <a:stretch/>
        </p:blipFill>
        <p:spPr>
          <a:xfrm>
            <a:off x="685800" y="1676520"/>
            <a:ext cx="2668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580920" y="1828800"/>
            <a:ext cx="4953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eople who are higher in rank or posi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3886200" y="3049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uperior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304920"/>
            <a:ext cx="327672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plo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s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ug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a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eri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6" descr="MCBD05515_0000[1]"/>
          <p:cNvPicPr/>
          <p:nvPr/>
        </p:nvPicPr>
        <p:blipFill>
          <a:blip r:embed="rId1"/>
          <a:stretch/>
        </p:blipFill>
        <p:spPr>
          <a:xfrm>
            <a:off x="685800" y="1828800"/>
            <a:ext cx="361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gormanl</cp:lastModifiedBy>
  <dcterms:modified xsi:type="dcterms:W3CDTF">2011-12-19T15:31:31Z</dcterms:modified>
  <cp:revision>35</cp:revision>
  <dc:subject/>
  <dc:title>Frindle Vocabulary Words</dc:title>
</cp:coreProperties>
</file>